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383-646F-4F9D-9BD1-F8705C3B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99F-DD08-4760-82E2-C3A1098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2A0-30E5-4BA3-9384-C33A8F0A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EE8-838C-4832-ABEE-3F6BFDAA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A55-1B54-4B29-8135-C7C19351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BCF-B948-4BF7-83A3-96015335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3FC-A96E-4695-A00A-06A1BF1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2F7-88EF-4C34-A3EC-F9C2C64A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20C-8037-40A9-8A85-6229F28B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8F3-CE60-4DF1-A871-E554A1AA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8A8-3FDF-4743-B9C6-DE797B1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831-FC92-44F7-A7E3-21B2EEBD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5280" y="4821120"/>
            <a:ext cx="1079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17080" y="4820760"/>
            <a:ext cx="792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0832-F1E3-4E8A-90F4-1A5FF412F3EB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Bild 7" descr="Fond_03.jpg"/>
          <p:cNvPicPr/>
          <p:nvPr/>
        </p:nvPicPr>
        <p:blipFill>
          <a:blip r:embed="rId3"/>
          <a:stretch/>
        </p:blipFill>
        <p:spPr>
          <a:xfrm>
            <a:off x="-7920" y="0"/>
            <a:ext cx="9151920" cy="514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hteck 6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84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24" name="Rechteck 6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b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25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7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cd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66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3508200"/>
            <a:ext cx="6335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 Narrow"/>
              </a:rPr>
              <a:t>Др. Марина Эггерт</a:t>
            </a: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, </a:t>
            </a:r>
            <a:r>
              <a:rPr b="1" lang="ru-RU" sz="1800" spc="-1" strike="noStrike">
                <a:solidFill>
                  <a:srgbClr val="003366"/>
                </a:solidFill>
                <a:latin typeface="Arial Narrow"/>
              </a:rPr>
              <a:t>Международный эксперт </a:t>
            </a:r>
            <a:r>
              <a:rPr b="1" lang="de-DE" sz="1800" spc="-1" strike="noStrike">
                <a:solidFill>
                  <a:srgbClr val="003366"/>
                </a:solidFill>
                <a:latin typeface="Arial Narrow"/>
              </a:rPr>
              <a:t>DI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9c0014"/>
                </a:solidFill>
                <a:latin typeface="Arial"/>
              </a:rPr>
              <a:t>Bishkek, Kyrgyzstan</a:t>
            </a:r>
            <a:br>
              <a:rPr sz="1800"/>
            </a:br>
            <a:r>
              <a:rPr b="0" lang="de-DE" sz="1800" spc="-1" strike="noStrike">
                <a:solidFill>
                  <a:srgbClr val="9c0014"/>
                </a:solidFill>
                <a:latin typeface="Arial"/>
              </a:rPr>
              <a:t>January 2016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71280" y="2355480"/>
            <a:ext cx="6335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b5c"/>
                </a:solidFill>
                <a:latin typeface="Arial"/>
              </a:rPr>
              <a:t>"Принципы и руководство по взаимодействию и заинтересованными сторонами в процессах стандартизации"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9640" y="484200"/>
            <a:ext cx="64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958"/>
                </a:solidFill>
                <a:latin typeface="Arial"/>
              </a:rPr>
              <a:t>"Члены ИСО обязаны... общаться на справедливой и прозрачной основе с заинтересованными сторонами, когда инициируется работа над новыми стандартами, а также впоследствии в ходе их разработки ..." </a:t>
            </a:r>
            <a:endParaRPr b="0" lang="en-US" sz="16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958"/>
                </a:solidFill>
                <a:latin typeface="Arial"/>
              </a:rPr>
              <a:t>Из </a:t>
            </a:r>
            <a:r>
              <a:rPr b="1" i="1" lang="ru-RU" sz="1600" spc="-1" strike="noStrike">
                <a:solidFill>
                  <a:srgbClr val="002958"/>
                </a:solidFill>
                <a:latin typeface="Arial"/>
              </a:rPr>
              <a:t>«Этического кодекса ИСО»</a:t>
            </a:r>
            <a:r>
              <a:rPr b="1" lang="ru-RU" sz="1600" spc="-1" strike="noStrike">
                <a:solidFill>
                  <a:srgbClr val="002958"/>
                </a:solidFill>
                <a:latin typeface="Arial"/>
              </a:rPr>
              <a:t>, 2004</a:t>
            </a:r>
            <a:endParaRPr b="0" lang="en-US" sz="16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958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2958"/>
                </a:solidFill>
                <a:latin typeface="Arial"/>
              </a:rPr>
              <a:t>... Национальные органы несут ответственность за обеспечение того, что их технический уровень устанавливается с учетом всех интересов на национальном уровне...”</a:t>
            </a:r>
            <a:endParaRPr b="0" lang="en-US" sz="16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958"/>
                </a:solidFill>
                <a:latin typeface="Arial"/>
              </a:rPr>
              <a:t>Из </a:t>
            </a:r>
            <a:r>
              <a:rPr b="1" i="1" lang="ru-RU" sz="1600" spc="-1" strike="noStrike">
                <a:solidFill>
                  <a:srgbClr val="002958"/>
                </a:solidFill>
                <a:latin typeface="Arial"/>
              </a:rPr>
              <a:t>«Директив ИСО/</a:t>
            </a:r>
            <a:r>
              <a:rPr b="1" i="1" lang="en-US" sz="1600" spc="-1" strike="noStrike">
                <a:solidFill>
                  <a:srgbClr val="002958"/>
                </a:solidFill>
                <a:latin typeface="Arial"/>
              </a:rPr>
              <a:t>IEC</a:t>
            </a:r>
            <a:r>
              <a:rPr b="1" i="1" lang="ru-RU" sz="1600" spc="-1" strike="noStrike">
                <a:solidFill>
                  <a:srgbClr val="002958"/>
                </a:solidFill>
                <a:latin typeface="Arial"/>
              </a:rPr>
              <a:t>, Часть 1</a:t>
            </a:r>
            <a:r>
              <a:rPr b="1" lang="ru-RU" sz="1600" spc="-1" strike="noStrike">
                <a:solidFill>
                  <a:srgbClr val="002958"/>
                </a:solidFill>
                <a:latin typeface="Arial"/>
              </a:rPr>
              <a:t> , Предисловие, пункт С касательно дисциплины</a:t>
            </a:r>
            <a:endParaRPr b="0" lang="en-US" sz="16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8" name="Fußzeilenplatzhalter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09" name="Foliennummernplatzhalter 4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BA55-9E91-4D2A-B6E3-3C621414D0A2}" type="slidenum"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11280" y="627120"/>
            <a:ext cx="64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Руководство ИСО/</a:t>
            </a:r>
            <a:r>
              <a:rPr b="0" lang="en-US" sz="1800" spc="-1" strike="noStrike">
                <a:solidFill>
                  <a:srgbClr val="002958"/>
                </a:solidFill>
                <a:latin typeface="Arial"/>
              </a:rPr>
              <a:t>IEC 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59:1994, Кодекс хорошей практики для стандартизации, в п. 6.3 утверждает следующее: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958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2958"/>
                </a:solidFill>
                <a:latin typeface="Arial"/>
              </a:rPr>
              <a:t>На международном уровне, национальное участие в процессе стандартизации организуется под эгидой соответствующего национального органа по стандартизации, который является членом соответствующей организации международных стандартов.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958"/>
                </a:solidFill>
                <a:latin typeface="Arial"/>
              </a:rPr>
              <a:t>Национальные члены должны гарантировать, что их участие отражает баланс</a:t>
            </a:r>
            <a:r>
              <a:rPr b="0" i="1" lang="de-DE" sz="1800" spc="-1" strike="noStrike">
                <a:solidFill>
                  <a:srgbClr val="002958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2958"/>
                </a:solidFill>
                <a:latin typeface="Arial"/>
              </a:rPr>
              <a:t>национальных интересов в сфере, к которой относится международная деятельность по стандартизации."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1" name="Fußzeilenplatzhalter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12" name="Foliennummernplatzhalter 4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98D-8909-40F6-A897-D8CC3ABA75EE}" type="slidenum"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13" name="Rechteck 5"/>
          <p:cNvSpPr/>
          <p:nvPr/>
        </p:nvSpPr>
        <p:spPr>
          <a:xfrm>
            <a:off x="539640" y="1419120"/>
            <a:ext cx="6624720" cy="3240360"/>
          </a:xfrm>
          <a:prstGeom prst="rect">
            <a:avLst/>
          </a:prstGeom>
          <a:noFill/>
          <a:ln w="25560">
            <a:solidFill>
              <a:srgbClr val="002b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pic>
        <p:nvPicPr>
          <p:cNvPr id="214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6875640" y="4011480"/>
            <a:ext cx="67752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4360" y="1275840"/>
            <a:ext cx="64087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Как правило, процессы ИСО и участие национальных членов рассматривались как успешные, когда в результате в стандартах </a:t>
            </a:r>
            <a:r>
              <a:rPr b="0" lang="en-US" sz="1800" spc="-1" strike="noStrike">
                <a:solidFill>
                  <a:srgbClr val="002958"/>
                </a:solidFill>
                <a:latin typeface="Arial"/>
              </a:rPr>
              <a:t>ISO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 отражался двойной уровень консенсуса - среди участников рынка и экспертов в подготовке законопроекта стандартов, и среди стран на формальных этапах голосования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6" name="Fußzeilenplatzhalter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17" name="Foliennummernplatzhalter 4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664-E1DA-4BF7-8D33-BA0B5C11371C}" type="slidenum"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pic>
        <p:nvPicPr>
          <p:cNvPr id="218" name="Picture 2" descr="C:\Program Files (x86)\Microsoft Office\MEDIA\CAGCAT10\j0293236.wmf"/>
          <p:cNvPicPr/>
          <p:nvPr/>
        </p:nvPicPr>
        <p:blipFill>
          <a:blip r:embed="rId1"/>
          <a:stretch/>
        </p:blipFill>
        <p:spPr>
          <a:xfrm>
            <a:off x="5724360" y="3651120"/>
            <a:ext cx="905040" cy="6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4360" y="1275840"/>
            <a:ext cx="64087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Высокая степень доверия к таким процессам на национальном уровне жизненно необходима для обеспечения высокой степени доверия к разработанным впоследствии стандартам ИСО и, в конечном счете, для бренда ИСО на рынке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Различия в подходах могут быть по разным причинам. Они могут основываться на различных моделях функционирования организаций, динамике заинтересованных сторон или имеющихся ресурсов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0" name="Fußzeilenplatzhalter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21" name="Foliennummernplatzhalter 4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2EED-5684-41F1-A5E8-B3A6B83647D9}" type="slidenum"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pic>
        <p:nvPicPr>
          <p:cNvPr id="222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6012000" y="195120"/>
            <a:ext cx="958680" cy="9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360" y="268200"/>
            <a:ext cx="64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Развитие эффективного сотрудничества и достижение консенсуса при разработке новых стандартов должно основываться на фундаменте взаимного </a:t>
            </a:r>
            <a:r>
              <a:rPr b="1" lang="ru-RU" sz="1800" spc="-1" strike="noStrike">
                <a:solidFill>
                  <a:srgbClr val="002958"/>
                </a:solidFill>
                <a:latin typeface="Arial"/>
              </a:rPr>
              <a:t>уважения и конструктивной совместной работе всех вовлеченных сторон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958"/>
                </a:solidFill>
                <a:latin typeface="Arial"/>
              </a:rPr>
              <a:t>3.1 </a:t>
            </a:r>
            <a:r>
              <a:rPr b="1" lang="ru-RU" sz="1800" spc="-1" strike="noStrike">
                <a:solidFill>
                  <a:srgbClr val="002958"/>
                </a:solidFill>
                <a:latin typeface="Arial"/>
              </a:rPr>
              <a:t>Привлечение заинтересованных сторон для новых проектов ИСО</a:t>
            </a:r>
            <a:r>
              <a:rPr b="1" lang="de-DE" sz="1800" spc="-1" strike="noStrike">
                <a:solidFill>
                  <a:srgbClr val="002958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295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Настоящий раздел дает руководство, позволяющее Национальным органам по стандартизации (</a:t>
            </a:r>
            <a:r>
              <a:rPr b="0" lang="en-US" sz="1800" spc="-1" strike="noStrike">
                <a:solidFill>
                  <a:srgbClr val="002958"/>
                </a:solidFill>
                <a:latin typeface="Arial"/>
              </a:rPr>
              <a:t>NSB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) ИСО оценить свой уровень интереса и поддержки новой работы, предлагаемой в ИСО, которая не относится к существующим комитетам ИСО и в отсутствие существующего соответствующего национального комитета </a:t>
            </a:r>
            <a:r>
              <a:rPr b="0" lang="en-US" sz="1800" spc="-1" strike="noStrike">
                <a:solidFill>
                  <a:srgbClr val="002958"/>
                </a:solidFill>
                <a:latin typeface="Arial"/>
              </a:rPr>
              <a:t>NSB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4" name="Fußzeilenplatzhalter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25" name="Foliennummernplatzhalter 4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E78C-4EE7-473E-8498-70960820AB1B}" type="slidenum"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26" name="Rechteck 5"/>
          <p:cNvSpPr/>
          <p:nvPr/>
        </p:nvSpPr>
        <p:spPr>
          <a:xfrm>
            <a:off x="468360" y="1995480"/>
            <a:ext cx="6624720" cy="2736720"/>
          </a:xfrm>
          <a:prstGeom prst="rect">
            <a:avLst/>
          </a:prstGeom>
          <a:noFill/>
          <a:ln w="25560">
            <a:solidFill>
              <a:srgbClr val="002b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4360" y="410760"/>
            <a:ext cx="6408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360" y="1275840"/>
            <a:ext cx="64087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2958"/>
                </a:solidFill>
                <a:latin typeface="Arial"/>
              </a:rPr>
              <a:t>3.2 </a:t>
            </a:r>
            <a:r>
              <a:rPr b="1" lang="ru-RU" sz="1800" spc="-1" strike="noStrike">
                <a:solidFill>
                  <a:srgbClr val="002958"/>
                </a:solidFill>
                <a:latin typeface="Arial"/>
              </a:rPr>
              <a:t>Привлечение заинтересованных сторон и достижение консенсуса в принятии решений касательно работы ИСО</a:t>
            </a:r>
            <a:r>
              <a:rPr b="1" lang="de-DE" sz="1800" spc="-1" strike="noStrike">
                <a:solidFill>
                  <a:srgbClr val="00295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Настоящий раздел дает  руководство для поддержки усилий </a:t>
            </a:r>
            <a:r>
              <a:rPr b="0" lang="en-US" sz="1800" spc="-1" strike="noStrike">
                <a:solidFill>
                  <a:srgbClr val="002958"/>
                </a:solidFill>
                <a:latin typeface="Arial"/>
              </a:rPr>
              <a:t>NSB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, направленных на привлечение заинтересованных сторон и достижение консенсуса в принятии решений при определении национальных позиций в области работы ИСО на постоянной основе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9" name="Fußzeilenplatzhalter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30" name="Foliennummernplatzhalter 4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2F82-B48A-4A61-883B-1FBB0591187B}" type="slidenum"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pic>
        <p:nvPicPr>
          <p:cNvPr id="231" name="Picture 2" descr="C:\Program Files (x86)\Microsoft Office\MEDIA\CAGCAT10\j0293236.wmf"/>
          <p:cNvPicPr/>
          <p:nvPr/>
        </p:nvPicPr>
        <p:blipFill>
          <a:blip r:embed="rId1"/>
          <a:stretch/>
        </p:blipFill>
        <p:spPr>
          <a:xfrm>
            <a:off x="5724360" y="3867120"/>
            <a:ext cx="863640" cy="638280"/>
          </a:xfrm>
          <a:prstGeom prst="rect">
            <a:avLst/>
          </a:prstGeom>
          <a:ln w="0">
            <a:noFill/>
          </a:ln>
        </p:spPr>
      </p:pic>
      <p:sp>
        <p:nvSpPr>
          <p:cNvPr id="232" name="Rechteck 6"/>
          <p:cNvSpPr/>
          <p:nvPr/>
        </p:nvSpPr>
        <p:spPr>
          <a:xfrm>
            <a:off x="611280" y="1058760"/>
            <a:ext cx="6408720" cy="3600720"/>
          </a:xfrm>
          <a:prstGeom prst="rect">
            <a:avLst/>
          </a:prstGeom>
          <a:noFill/>
          <a:ln w="25560">
            <a:solidFill>
              <a:srgbClr val="002b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2:33:25Z</dcterms:created>
  <dc:creator>Dominique Gaensecke</dc:creator>
  <dc:description/>
  <dc:language>en-US</dc:language>
  <cp:lastModifiedBy>Salmorbek Asanaliev</cp:lastModifiedBy>
  <dcterms:modified xsi:type="dcterms:W3CDTF">2016-06-16T08:34:36Z</dcterms:modified>
  <cp:revision>624</cp:revision>
  <dc:subject/>
  <dc:title>PowerPoint-Präsentation</dc:title>
</cp:coreProperties>
</file>