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84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5632560" y="-360"/>
            <a:ext cx="43084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3279600" y="506520"/>
            <a:ext cx="3383280" cy="253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move the slid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93600" y="3211200"/>
            <a:ext cx="79552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0" y="6421320"/>
            <a:ext cx="430848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5632560" y="6421320"/>
            <a:ext cx="430848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1F7E-7E91-4D9D-84A9-1A59211993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3279600" y="506520"/>
            <a:ext cx="3383280" cy="25365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93600" y="3211200"/>
            <a:ext cx="79552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5632560" y="6421320"/>
            <a:ext cx="4308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E904-D902-43E0-95AB-E52A87C4BE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3279600" y="506520"/>
            <a:ext cx="3383280" cy="25365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93600" y="3211200"/>
            <a:ext cx="79552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5632560" y="6421320"/>
            <a:ext cx="4308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8646-CE6A-4853-89AE-5D783F2C8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3279600" y="506520"/>
            <a:ext cx="3383280" cy="25365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93600" y="3211200"/>
            <a:ext cx="79552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5632560" y="6421320"/>
            <a:ext cx="4308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F61E-3566-482A-8098-51DD2A76C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412-CFB9-4C77-AE90-9DB8046C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741-F69F-4F1E-BE22-4111CAC6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611-088B-4B21-BD83-7A2B254E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13E-8A63-49B4-84E8-61BDC40E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C987-F3C4-4D65-975B-0F0C2B32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6A6D-F79E-4572-995F-44B30C65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82C1-0F85-48BB-83B1-A1115B39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ACF8-5099-4AE2-AF9F-103C1054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BFFA-0C55-4622-A1CC-D5ADB0E0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7670-EF6F-4A14-8E5B-BBAEDCCF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A8E0-8703-4078-A014-E0DF197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968-5232-4697-9977-50CFAAB2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14F5-4481-43E4-A037-B47F2BB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82BE-F8CC-4814-8645-8B54894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5785-1784-4398-945B-925B423F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1C46-D0D7-4014-9A8C-F387169C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F80C-CE20-409E-A26C-579B921E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733D-9188-4C9C-AB0D-5FD2015E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6F83-4180-4151-9DF5-A7F91C4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D317-EDF0-4F95-8BF7-B7AAA049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0157-51E4-4830-AA23-CDDD58B7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0B89-D842-4F3D-8F68-7924C294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887-9324-4BD6-81A0-0B095C56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BD13-E533-4D55-94EC-9DA64433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0EE6-E0CE-4A9E-887D-ADC7EE3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59CF-6E04-4D63-938B-14C6DA7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D53C-CC94-4F7A-9428-F2BD4AB7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8007-6D75-493F-9C24-404DE456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B9AD-84ED-4D47-AE90-97942CE2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6773-E7CA-4498-9F5F-B995FE28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1C466-271B-49F5-92D1-B2237639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FAD8-F388-45C9-BAE3-805AA123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F8DA-3668-4ECC-94A4-5B0F5828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D19-5B71-46B1-A965-9D4E8AA8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3AA4-5926-4D31-A441-AD6CAA68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6F925-0E05-4A88-A1D7-0035179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B88D-377F-449D-BFC0-4826599F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D3DA1-D85D-46FD-8A63-A235E26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A30F-44CE-46AF-9F07-EAB9185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6500-9558-4C87-9B87-ABB7E253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E91D9-90CB-4CA0-A63B-654A0D00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769D-02CE-4C6D-8035-1DC2AFEE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D48F-2AD6-4FC7-A54A-3DF8D657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2BD2F-65AA-40F0-A395-3FC54CDE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6C8-F051-4946-84F9-2B8131F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659C4-EFFB-4BAE-85D6-1003419E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E226A-8611-4E2B-8A0C-487D89EE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31B35-2EF3-4F07-9E80-E9D4D435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F85B1-B170-4CC3-A543-CD2DA960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7B4E-EB4F-4B73-850F-077D35C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D2F9-116B-48E4-A4BD-BD04958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E922E-C576-4881-9BE9-541801F0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6810-ADB2-48F6-BF65-6438FEE9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74E4A-A4AB-4EF9-BE99-17EB905C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E527-E072-4B67-924D-E910D48B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D5D-3B85-4D74-8F71-F6D890A8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0766-92B6-4D8C-A10E-FA67FE3C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EFA5C-6B7F-454F-B06A-9EF79EEB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14BA-A73A-49D8-8473-3385B474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97489-82D0-41E4-8CD8-531F0B1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0B314-B10C-4FC1-949E-2B6120C2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0F6D-123A-48A2-B915-2148079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5083C-DB60-40A1-81AF-718C8051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9845-96E1-4B26-81C2-685D37E1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AAC8F-B1B6-40B3-A56B-5C71F34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198F5-36DA-48C8-A0FE-2BD554B2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457-5BF8-4C61-B966-C400085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0DC0-2DA3-42D0-9004-06526940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7A853-5686-4843-A9E0-D5995B59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99E2C-FC63-4EAE-BDA3-7089D8A5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079-130B-4F0C-9B12-6400D442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6E7-DDAA-4813-8FFF-1E1670A8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50E5571-D55D-429B-9FE8-75714702CAA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FB99-8F46-4C7C-AC2D-61083108C206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EA2B-E846-4B3C-B836-1CF54F147017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5FB0-E8BA-4431-8969-F622FCD0086A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A9D7-9438-4731-BCB0-40261A57356A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D567-11B0-4EE8-9130-553EF41C41B5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7280" y="907560"/>
            <a:ext cx="7993080" cy="25923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orbel"/>
              </a:rPr>
              <a:t>ГОСУДАРСТВЕННАЯ  ПРОГРАММА </a:t>
            </a:r>
            <a:br>
              <a:rPr sz="3200"/>
            </a:br>
            <a:r>
              <a:rPr b="1" lang="ru-RU" sz="3200" spc="-1" strike="noStrike">
                <a:solidFill>
                  <a:srgbClr val="262626"/>
                </a:solidFill>
                <a:latin typeface="Corbel"/>
              </a:rPr>
              <a:t>ФИСКАЛЬНОЙ ПОЛИТИКИ </a:t>
            </a:r>
            <a:br>
              <a:rPr sz="3200"/>
            </a:br>
            <a:r>
              <a:rPr b="1" lang="ru-RU" sz="3200" spc="-1" strike="noStrike">
                <a:solidFill>
                  <a:srgbClr val="262626"/>
                </a:solidFill>
                <a:latin typeface="Corbel"/>
              </a:rPr>
              <a:t>КЫРГЫЗСКОЙ РЕСПУБЛИКИ НА 2020-2025 ГОД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24000" y="5589720"/>
            <a:ext cx="8640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Бишкек – 2019 г.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Равнобедренный треугольник 3"/>
          <p:cNvSpPr/>
          <p:nvPr/>
        </p:nvSpPr>
        <p:spPr>
          <a:xfrm>
            <a:off x="436680" y="2544840"/>
            <a:ext cx="3182760" cy="2446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3396600" y="2793960"/>
            <a:ext cx="158112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Крупный бизнес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3965040" y="3583080"/>
            <a:ext cx="156132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Средний бизнес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4491000" y="4414680"/>
            <a:ext cx="1362240" cy="5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Малый бизнес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9"/>
          <p:cNvSpPr/>
          <p:nvPr/>
        </p:nvSpPr>
        <p:spPr>
          <a:xfrm flipV="1">
            <a:off x="1022400" y="4121280"/>
            <a:ext cx="202068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10"/>
          <p:cNvSpPr/>
          <p:nvPr/>
        </p:nvSpPr>
        <p:spPr>
          <a:xfrm flipV="1">
            <a:off x="1536840" y="3290400"/>
            <a:ext cx="9921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1784520" y="292752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2 2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1722600" y="3583080"/>
            <a:ext cx="66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2 53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1658880" y="4414680"/>
            <a:ext cx="103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250 28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Левая фигурная скобка 18"/>
          <p:cNvSpPr/>
          <p:nvPr/>
        </p:nvSpPr>
        <p:spPr>
          <a:xfrm rot="2013600">
            <a:off x="474480" y="3958920"/>
            <a:ext cx="263520" cy="1025640"/>
          </a:xfrm>
          <a:custGeom>
            <a:avLst/>
            <a:gdLst>
              <a:gd name="textAreaLeft" fmla="*/ 168480 w 263520"/>
              <a:gd name="textAreaRight" fmla="*/ 263880 w 263520"/>
              <a:gd name="textAreaTop" fmla="*/ 6840 h 1025640"/>
              <a:gd name="textAreaBottom" fmla="*/ 1018800 h 10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3"/>
                </a:cubicBezTo>
                <a:lnTo>
                  <a:pt x="10800" y="10337"/>
                </a:lnTo>
                <a:cubicBezTo>
                  <a:pt x="10800" y="10569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3"/>
                </a:cubicBezTo>
                <a:lnTo>
                  <a:pt x="10800" y="21137"/>
                </a:lnTo>
                <a:cubicBezTo>
                  <a:pt x="10800" y="21369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Левая фигурная скобка 19"/>
          <p:cNvSpPr/>
          <p:nvPr/>
        </p:nvSpPr>
        <p:spPr>
          <a:xfrm rot="1977600">
            <a:off x="1010880" y="3171960"/>
            <a:ext cx="263520" cy="934920"/>
          </a:xfrm>
          <a:custGeom>
            <a:avLst/>
            <a:gdLst>
              <a:gd name="textAreaLeft" fmla="*/ 168480 w 263520"/>
              <a:gd name="textAreaRight" fmla="*/ 263880 w 263520"/>
              <a:gd name="textAreaTop" fmla="*/ 6840 h 934920"/>
              <a:gd name="textAreaBottom" fmla="*/ 92808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4"/>
                  <a:pt x="10800" y="507"/>
                </a:cubicBezTo>
                <a:lnTo>
                  <a:pt x="10800" y="10293"/>
                </a:lnTo>
                <a:cubicBezTo>
                  <a:pt x="10800" y="10547"/>
                  <a:pt x="5400" y="10800"/>
                  <a:pt x="0" y="10800"/>
                </a:cubicBezTo>
                <a:cubicBezTo>
                  <a:pt x="5400" y="10800"/>
                  <a:pt x="10800" y="11054"/>
                  <a:pt x="10800" y="11307"/>
                </a:cubicBezTo>
                <a:lnTo>
                  <a:pt x="10800" y="21093"/>
                </a:lnTo>
                <a:cubicBezTo>
                  <a:pt x="10800" y="21347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Левая фигурная скобка 20"/>
          <p:cNvSpPr/>
          <p:nvPr/>
        </p:nvSpPr>
        <p:spPr>
          <a:xfrm rot="1977600">
            <a:off x="1526760" y="2404800"/>
            <a:ext cx="265320" cy="884160"/>
          </a:xfrm>
          <a:custGeom>
            <a:avLst/>
            <a:gdLst>
              <a:gd name="textAreaLeft" fmla="*/ 169560 w 265320"/>
              <a:gd name="textAreaRight" fmla="*/ 265680 w 265320"/>
              <a:gd name="textAreaTop" fmla="*/ 6840 h 884160"/>
              <a:gd name="textAreaBottom" fmla="*/ 877320 h 88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1"/>
          <p:cNvSpPr/>
          <p:nvPr/>
        </p:nvSpPr>
        <p:spPr>
          <a:xfrm>
            <a:off x="0" y="4164120"/>
            <a:ext cx="66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,2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2"/>
          <p:cNvSpPr/>
          <p:nvPr/>
        </p:nvSpPr>
        <p:spPr>
          <a:xfrm>
            <a:off x="606600" y="3322800"/>
            <a:ext cx="536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0,9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3"/>
          <p:cNvSpPr/>
          <p:nvPr/>
        </p:nvSpPr>
        <p:spPr>
          <a:xfrm>
            <a:off x="1022400" y="2536920"/>
            <a:ext cx="58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0,9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25"/>
          <p:cNvSpPr/>
          <p:nvPr/>
        </p:nvSpPr>
        <p:spPr>
          <a:xfrm flipH="1" flipV="1">
            <a:off x="2276280" y="2927160"/>
            <a:ext cx="1089000" cy="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26"/>
          <p:cNvSpPr/>
          <p:nvPr/>
        </p:nvSpPr>
        <p:spPr>
          <a:xfrm flipH="1" flipV="1">
            <a:off x="2771280" y="3722400"/>
            <a:ext cx="1187640" cy="11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28"/>
          <p:cNvSpPr/>
          <p:nvPr/>
        </p:nvSpPr>
        <p:spPr>
          <a:xfrm flipH="1" flipV="1">
            <a:off x="3311640" y="4552560"/>
            <a:ext cx="1179360" cy="11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1"/>
          <p:cNvSpPr/>
          <p:nvPr/>
        </p:nvSpPr>
        <p:spPr>
          <a:xfrm>
            <a:off x="1300320" y="5045040"/>
            <a:ext cx="1393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255 115 плательщик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Равнобедренный треугольник 32"/>
          <p:cNvSpPr/>
          <p:nvPr/>
        </p:nvSpPr>
        <p:spPr>
          <a:xfrm rot="10800000">
            <a:off x="5484600" y="2550600"/>
            <a:ext cx="3181320" cy="244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3"/>
          <p:cNvSpPr/>
          <p:nvPr/>
        </p:nvSpPr>
        <p:spPr>
          <a:xfrm>
            <a:off x="6851520" y="2768760"/>
            <a:ext cx="54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56,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4"/>
          <p:cNvSpPr/>
          <p:nvPr/>
        </p:nvSpPr>
        <p:spPr>
          <a:xfrm>
            <a:off x="6948360" y="3565440"/>
            <a:ext cx="48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2,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5"/>
          <p:cNvSpPr/>
          <p:nvPr/>
        </p:nvSpPr>
        <p:spPr>
          <a:xfrm>
            <a:off x="6845400" y="4233960"/>
            <a:ext cx="57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11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Левая фигурная скобка 36"/>
          <p:cNvSpPr/>
          <p:nvPr/>
        </p:nvSpPr>
        <p:spPr>
          <a:xfrm rot="12778200">
            <a:off x="7388280" y="4092120"/>
            <a:ext cx="263520" cy="1025640"/>
          </a:xfrm>
          <a:custGeom>
            <a:avLst/>
            <a:gdLst>
              <a:gd name="textAreaLeft" fmla="*/ 168480 w 263520"/>
              <a:gd name="textAreaRight" fmla="*/ 263880 w 263520"/>
              <a:gd name="textAreaTop" fmla="*/ 6840 h 1025640"/>
              <a:gd name="textAreaBottom" fmla="*/ 1018800 h 10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3"/>
                </a:cubicBezTo>
                <a:lnTo>
                  <a:pt x="10800" y="10337"/>
                </a:lnTo>
                <a:cubicBezTo>
                  <a:pt x="10800" y="10569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3"/>
                </a:cubicBezTo>
                <a:lnTo>
                  <a:pt x="10800" y="21137"/>
                </a:lnTo>
                <a:cubicBezTo>
                  <a:pt x="10800" y="21369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Левая фигурная скобка 37"/>
          <p:cNvSpPr/>
          <p:nvPr/>
        </p:nvSpPr>
        <p:spPr>
          <a:xfrm rot="12742200">
            <a:off x="7926480" y="3307680"/>
            <a:ext cx="264960" cy="934920"/>
          </a:xfrm>
          <a:custGeom>
            <a:avLst/>
            <a:gdLst>
              <a:gd name="textAreaLeft" fmla="*/ 169200 w 264960"/>
              <a:gd name="textAreaRight" fmla="*/ 265320 w 264960"/>
              <a:gd name="textAreaTop" fmla="*/ 6840 h 934920"/>
              <a:gd name="textAreaBottom" fmla="*/ 92808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Левая фигурная скобка 38"/>
          <p:cNvSpPr/>
          <p:nvPr/>
        </p:nvSpPr>
        <p:spPr>
          <a:xfrm rot="12742200">
            <a:off x="8404920" y="2545920"/>
            <a:ext cx="265320" cy="884160"/>
          </a:xfrm>
          <a:custGeom>
            <a:avLst/>
            <a:gdLst>
              <a:gd name="textAreaLeft" fmla="*/ 169560 w 265320"/>
              <a:gd name="textAreaRight" fmla="*/ 265680 w 265320"/>
              <a:gd name="textAreaTop" fmla="*/ 6840 h 884160"/>
              <a:gd name="textAreaBottom" fmla="*/ 877320 h 88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9"/>
          <p:cNvSpPr/>
          <p:nvPr/>
        </p:nvSpPr>
        <p:spPr>
          <a:xfrm>
            <a:off x="8132760" y="3786120"/>
            <a:ext cx="54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4,0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2"/>
          <p:cNvSpPr/>
          <p:nvPr/>
        </p:nvSpPr>
        <p:spPr>
          <a:xfrm>
            <a:off x="6497640" y="5045040"/>
            <a:ext cx="1292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млрд. с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43"/>
          <p:cNvSpPr/>
          <p:nvPr/>
        </p:nvSpPr>
        <p:spPr>
          <a:xfrm flipH="1" flipV="1">
            <a:off x="5981760" y="3270240"/>
            <a:ext cx="218592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ая соединительная линия 44"/>
          <p:cNvSpPr/>
          <p:nvPr/>
        </p:nvSpPr>
        <p:spPr>
          <a:xfrm flipH="1">
            <a:off x="6494040" y="4081320"/>
            <a:ext cx="1174680" cy="6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5"/>
          <p:cNvSpPr/>
          <p:nvPr/>
        </p:nvSpPr>
        <p:spPr>
          <a:xfrm>
            <a:off x="8593200" y="3000240"/>
            <a:ext cx="63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78,4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6"/>
          <p:cNvSpPr/>
          <p:nvPr/>
        </p:nvSpPr>
        <p:spPr>
          <a:xfrm>
            <a:off x="7640640" y="4613400"/>
            <a:ext cx="69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17,6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51"/>
          <p:cNvSpPr/>
          <p:nvPr/>
        </p:nvSpPr>
        <p:spPr>
          <a:xfrm flipH="1">
            <a:off x="4939920" y="2933640"/>
            <a:ext cx="801720" cy="11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52"/>
          <p:cNvSpPr/>
          <p:nvPr/>
        </p:nvSpPr>
        <p:spPr>
          <a:xfrm flipH="1">
            <a:off x="5489280" y="3722760"/>
            <a:ext cx="731880" cy="11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53"/>
          <p:cNvSpPr/>
          <p:nvPr/>
        </p:nvSpPr>
        <p:spPr>
          <a:xfrm flipH="1">
            <a:off x="5852880" y="4552920"/>
            <a:ext cx="936360" cy="11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76"/>
          <p:cNvSpPr/>
          <p:nvPr/>
        </p:nvSpPr>
        <p:spPr>
          <a:xfrm>
            <a:off x="592200" y="1755720"/>
            <a:ext cx="279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Количество плательщиков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77"/>
          <p:cNvSpPr/>
          <p:nvPr/>
        </p:nvSpPr>
        <p:spPr>
          <a:xfrm>
            <a:off x="5875200" y="1839960"/>
            <a:ext cx="27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Поступление налог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Заголовок 1"/>
          <p:cNvSpPr/>
          <p:nvPr/>
        </p:nvSpPr>
        <p:spPr>
          <a:xfrm>
            <a:off x="527040" y="404640"/>
            <a:ext cx="8435880" cy="1152720"/>
          </a:xfrm>
          <a:prstGeom prst="rect">
            <a:avLst/>
          </a:prstGeom>
          <a:noFill/>
          <a:ln cap="sq"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182880" bIns="1828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ТРУКТУРА СОБИРАЕМОСТИ НАЛОГОВ ПО КАТЕГОРИЯМ ПЛАТЕЛЬЩИКОВ ЗА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18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Г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(ДАННЫЕ ГНС ПРИ ПКР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8240760" y="621828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E620-DDA5-4B2B-B32C-FB86E7511D81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26"/>
                </a:solidFill>
                <a:latin typeface="Corbel"/>
              </a:rPr>
              <a:t>ОСНОВНЫЕ ПРЕДЛАГАЕМЫЕ МЕРЫ ПО ПРОЕКТУ ПРОГРАММЫ ФИСКАЛЬНОЙ ПОЛИТИКИ 2020-2025</a:t>
            </a: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3640" y="2204640"/>
            <a:ext cx="8569080" cy="37450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1. Внедрение электронной системы фискализации налоговых процедур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2. Создание новых институтов по налоговым спорам (Институт досудебного разбирательства по налоговым спорам; Специализированные налоговые суды)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3. Создание крупнейшего финансового центра в Евразийском пространстве (площадки для экспортно-импортных операций; инвестиционных фондов (по примеру Люксембурга; крупнейшего финансового и инвестиционного кластера)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240760" y="621828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7DF0-FBD8-4FE2-B4E7-3398D6FE2EA5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26"/>
                </a:solidFill>
                <a:latin typeface="Corbel"/>
              </a:rPr>
              <a:t>ОСНОВНЫЕ ПРЕДЛАГАЕМЫЕ МЕРЫ ПО ПРОЕКТУ ПРОГРАММЫ ФИСКАЛЬНОЙ ПОЛИТИКИ 2020-2025</a:t>
            </a: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23640" y="1773000"/>
            <a:ext cx="8569080" cy="38876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4. Переход на принципы всеобщего декларирования с применением контроля налогооблагаемых доходов на соответствие с информацией о фактически понесенных расходах и изменении имущественного положения необходимо завершить до 2024 года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indent="349200" algn="just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5.</a:t>
            </a: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Проведение очередной кампании по добровольному декларированию доходов и имущества (легализация имущества)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indent="349200" algn="just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6. Внедрение современных методов трансфертного ценообразования, налогообложение электронной торговли и майнинга криптовалют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indent="349200" algn="just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indent="349200" algn="just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240760" y="621828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2850-196B-4D90-BD5B-9541DB4B2F75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26"/>
                </a:solidFill>
                <a:latin typeface="Corbel"/>
              </a:rPr>
              <a:t>ОСНОВНЫЕ ПРЕДЛАГАЕМЫЕ МЕРЫ ПО ПРОЕКТУ ПРОГРАММЫ ФИСКАЛЬНОЙ ПОЛИТИКИ 2020-2025</a:t>
            </a: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23640" y="2133720"/>
            <a:ext cx="8569080" cy="3743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7. На основе изучения передовой мировой практики усовершенствовать систему налогообложения недропользователей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8. Поэтапное сокращение перечня видов деятельности осуществляемых на условиях добровольного патента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9. Изучение возможности введения снижения ставки НДС с 12% до 10%, с одновременным обложением налогом с продаж по ставке 2% выручки от реализации товаров (работ, услуг) физическим лицам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indent="342000" algn="just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Corbe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8240760" y="621828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705A-4E47-48E4-8FAF-7BBC3722051C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47280" y="2492280"/>
            <a:ext cx="5937480" cy="95256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orbel"/>
              </a:rPr>
              <a:t>СПАСИБО ЗА ВНИМАНИЕ!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240760" y="621828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5799-5D03-489E-BC91-9E8E4C16FD67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4960" y="549000"/>
            <a:ext cx="8436240" cy="129708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НАПРАВЛ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ИСКАЛЬНОЙ ПОЛИТИКИ: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9920" y="2349000"/>
            <a:ext cx="84358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Первое – увеличение поступлений доходной части бюджета и уменьшение доли теневой экономики.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Второе – создание благоприятных условий для развития экономики. 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8319960" y="6237360"/>
            <a:ext cx="36540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9034-D42A-4DBB-B202-D778BDD58A18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Объект 8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261" name="Номер слайда 3"/>
          <p:cNvSpPr/>
          <p:nvPr/>
        </p:nvSpPr>
        <p:spPr>
          <a:xfrm>
            <a:off x="8459640" y="6242040"/>
            <a:ext cx="36540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A774-29AB-4F36-9B75-1686305FFD9A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0560" y="2060640"/>
            <a:ext cx="8435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алоговые доходы 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С 2004 по 2018 годы объем поступлений возрос от 14,0 млрд. сом до 116,6 млрд. сом или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в 8,3 раза</a:t>
            </a: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Рост ВВП от 94,4 до 557,1 млрд. сом или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в 5,9 раз</a:t>
            </a: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, что характеризует проводимую  налоговую политику в целом с позитивной стороны. 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250920" y="260280"/>
            <a:ext cx="8435880" cy="129708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СНОВНЫЕ ТЕНДЕНЦИИ В ПОСТУПЛЕНИЯХ ДОХОДОВ БЮДЖЕТА КЫРГЫЗСКОЙ РЕСПУБЛ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8388360" y="613260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131D-90E2-4CA0-9C91-A131A357B135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Объект 5" descr=""/>
          <p:cNvPicPr/>
          <p:nvPr/>
        </p:nvPicPr>
        <p:blipFill>
          <a:blip r:embed="rId1"/>
          <a:stretch/>
        </p:blipFill>
        <p:spPr>
          <a:xfrm>
            <a:off x="628560" y="255600"/>
            <a:ext cx="7886880" cy="59198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8182080" y="1405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8265240" y="3452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8162640" y="22208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8388360" y="613260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63C-1037-4BCE-994E-719A15666E7C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Диаграмма 7" descr=""/>
          <p:cNvPicPr/>
          <p:nvPr/>
        </p:nvPicPr>
        <p:blipFill>
          <a:blip r:embed="rId1"/>
          <a:stretch/>
        </p:blipFill>
        <p:spPr>
          <a:xfrm>
            <a:off x="426960" y="762120"/>
            <a:ext cx="7997760" cy="55465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35880" cy="50328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ВП НА ДУШУ НАСЕЛЕНИЯ ЗА 2004-2018 ГОДЫ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8130960" y="2924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8208720" y="5045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8165880" y="44560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8203680" y="398772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88360" y="613260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3BA1-BDD1-4045-92EF-A4F2D5BCA5E1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108000" y="1844640"/>
          <a:ext cx="8928000" cy="3130560"/>
        </p:xfrm>
        <a:graphic>
          <a:graphicData uri="http://schemas.openxmlformats.org/drawingml/2006/table">
            <a:tbl>
              <a:tblPr/>
              <a:tblGrid>
                <a:gridCol w="1396800"/>
                <a:gridCol w="503280"/>
                <a:gridCol w="501840"/>
                <a:gridCol w="501480"/>
                <a:gridCol w="501840"/>
                <a:gridCol w="501480"/>
                <a:gridCol w="501840"/>
                <a:gridCol w="503280"/>
                <a:gridCol w="501480"/>
                <a:gridCol w="501480"/>
                <a:gridCol w="501840"/>
                <a:gridCol w="501480"/>
                <a:gridCol w="501840"/>
                <a:gridCol w="503280"/>
                <a:gridCol w="501480"/>
                <a:gridCol w="503280"/>
              </a:tblGrid>
              <a:tr h="26064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р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 gridSpan="15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</a:tr>
              <a:tr h="1041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ыргызская Респуб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</a:tr>
              <a:tr h="716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ру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f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0cc"/>
                    </a:solidFill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3880" y="237600"/>
            <a:ext cx="8436240" cy="129708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ООТНОШЕНИЕ НАЛОГОВЫХ ДОХОДОВ В АРМЕНИИ, ГРУЗИИ И КЫРГЫЗСКОЙ РЕСПУБЛИК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 2004-2018 ГОДЫ, В % К ВВП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8388360" y="613260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C835-F344-457F-8443-C34F6A6EBD70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88480" y="115560"/>
            <a:ext cx="7129800" cy="86508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СРАВНЕНИЕ НАЛОГОВЫХ СИСТЕМ СТРАН КАЗАХСТАН, РОССИЯ, УЗБЕКИСТАН И КЫРГЫЗСТАН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08000" y="1125360"/>
          <a:ext cx="8928000" cy="5088240"/>
        </p:xfrm>
        <a:graphic>
          <a:graphicData uri="http://schemas.openxmlformats.org/drawingml/2006/table">
            <a:tbl>
              <a:tblPr/>
              <a:tblGrid>
                <a:gridCol w="290520"/>
                <a:gridCol w="1427040"/>
                <a:gridCol w="2924280"/>
                <a:gridCol w="1509840"/>
                <a:gridCol w="1245960"/>
                <a:gridCol w="1530360"/>
              </a:tblGrid>
              <a:tr h="163080"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ид нало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ыргыз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с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збеки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</a:tr>
              <a:tr h="325800"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лог на 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0%-с/х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6-20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Д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лог на доходы иностранных юрид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5-15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5% дивиденды и проц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доход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5%-дивиденды, выигрыш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% (35%, 30%, 15%, 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лог на иму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,1-1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,35-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 (налог с имущества 3-40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-3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безналичка – 0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 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160"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раховые взн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9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,5% социальный налог (платит работодатель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5% социальные страхования (платит работодатель от доходов работника за счет средств работодателя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 пенсионный отчисления (из доходов работника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% обязательный профессиональный пенсионный взнос (платит работодатель от доходов работника за счет средств работодател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5% социальное медицинское страхование (платит работодатель от доходов работника за счет средств работодател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7,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7,25%-юр.лиц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-физ.лиц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диный социа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2%- пенс.страх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более 796 тысяч рублей 10%-пенс.страх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9% - соц.стр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,1%-обяз.стр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% - бюджетные организации и государственные пред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% - другие плательщи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9f2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ди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%, 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-6% (налич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-3% (безналич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 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ные ставки в зависимости от вида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Номер слайда 3"/>
          <p:cNvSpPr/>
          <p:nvPr/>
        </p:nvSpPr>
        <p:spPr>
          <a:xfrm>
            <a:off x="8389800" y="6315120"/>
            <a:ext cx="36540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FA5C-56A3-429E-BA76-281EB64EB9B6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5056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1) количество налогов в целом сокращается;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2) количество специальных налоговых режимов увеличивается;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3) ставки налогов в целом сокращаются;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4) количество налоговых льгот увеличивается;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5) налоговые поступления увеличиваются;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6) сохраняются вопросы по качеству налогового                     администрирования, включая применение                                                            мер налогового контроля;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7) имеет место относительно высокий уровень теневой экономики.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4" name="Заголовок 1"/>
          <p:cNvSpPr/>
          <p:nvPr/>
        </p:nvSpPr>
        <p:spPr>
          <a:xfrm>
            <a:off x="277920" y="115920"/>
            <a:ext cx="8435880" cy="1297080"/>
          </a:xfrm>
          <a:prstGeom prst="rect">
            <a:avLst/>
          </a:prstGeom>
          <a:noFill/>
          <a:ln cap="sq" w="316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III. ТЕНДЕНЦИИ РАЗВИТИЯ НАЛОГОВОЙ СИСТЕМЫ КЫРГЫЗСКОЙ РЕСПУБЛИКИ ЗА ПОСЛЕДНИЕ Г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8388360" y="6132600"/>
            <a:ext cx="365040" cy="365040"/>
          </a:xfrm>
          <a:prstGeom prst="ellipse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6230-D6AC-4C54-9ED7-F3EB062F991D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2:42:29Z</dcterms:created>
  <dc:creator>Denis Winckler</dc:creator>
  <dc:description/>
  <dc:language>en-US</dc:language>
  <cp:lastModifiedBy>Pak V.V</cp:lastModifiedBy>
  <cp:lastPrinted>2019-08-30T02:59:15Z</cp:lastPrinted>
  <dcterms:modified xsi:type="dcterms:W3CDTF">2019-08-30T03:14:39Z</dcterms:modified>
  <cp:revision>439</cp:revision>
  <dc:subject/>
  <dc:title>The Partnership and Cooperation Agreement between the EU and Kyrgyzstan</dc:title>
</cp:coreProperties>
</file>